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FF9-D2CE-43F2-B0D3-1AF5C42C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A78-1206-4AD9-B40B-C237ED41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5A1EA-5D0A-41A5-8FCB-C021013E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FC44F-492E-41E2-A0BB-70120EBF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15E92-3D97-452C-AF01-2467A676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44EA0-6133-43E1-B1A6-784105C9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5C11D-CC18-4769-851E-5779C17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434A8-76F6-4A74-9317-E67399F7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E1011-4A94-42AA-9F9B-8357EE03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D652D-5715-4C5C-834B-94D2B365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67D2D-812F-41DF-B1D4-D7A94C5D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D5E3A-8C68-4873-AEFF-610BAC6F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39A-88B9-4740-8AE9-576DEEC8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78C53-26CA-4EFF-9316-E171C154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D2DCF-156B-49D1-9ABC-A3BF3A8A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6D9D8-8A11-4AFA-9D77-11FA7AB2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072F4-5070-409C-9B9B-FE1DAE4B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AF06F-E301-48D8-A8C2-5D54BC5C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64E7D-8B36-46E1-AD79-62C0FC9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40E30-1AEE-4FA9-A19D-C1BD344A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617C3-38AA-4C2E-BDB8-6F4C53F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96F00-426D-4DAA-A476-41389C88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0A756-8305-46EE-BF5A-057E121D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58D-0913-46BE-B60B-59E76451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929CF-30A9-452B-8DF1-73F99641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0B0B3-29DE-4582-B7EE-4230338E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E8E69-A35E-44BA-8379-4537B62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2C4D7-1BA0-4525-B616-2287EBE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9D24E-2BD6-4BE6-810E-6D0385CD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4C623-F4AD-4BF1-A43A-CDC221EE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C6907-B808-401F-BF93-AF0B6063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B909F-A583-4FA5-AC34-5C73255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507C6-6C1D-426A-A755-7B079CFE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8E603-7AD4-4A1B-B237-F9970327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74CD-7871-43D3-B340-0FA074E0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082DD-9695-4560-9CBD-62C60E5B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259BD-5A5B-42F8-AA71-6599D67C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45B74-A92C-4126-9FE4-A2D33D10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2959-3E02-40BE-89BC-95B78A8A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F1C2-91C4-4097-A683-8D63D385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C0B0-AED7-4761-9842-DE35BB8B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C0D4-086A-4E81-B171-AFE3F10B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20E0-0601-4B5F-9C1F-06F665D0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86A9-849D-473B-A517-39F9614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881-68A0-41A4-87BF-7AE448E9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C587-0B5E-4245-9381-2D7539E9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3F4B-B098-4849-929D-326AB2F9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A11D-C4FA-4D82-9A6D-409736BC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B83B-4F5F-4314-AAC7-F7A000A3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5547-7BDB-422B-AAF6-3A3089F4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1187-47A2-48D0-9C24-42DFCECC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9563-C860-4447-A155-4CF16E57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D804-F30B-464D-8B35-D86C2A23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A699-329C-4A25-A911-ED7B8B47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36DD-8178-41E1-B3C6-72CDB9C0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FEB-4F1A-480E-84A2-BCC07D5D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28D8-0DB0-4E56-B163-F47A1E8E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6884-8160-45AC-88D2-F0BBE1B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1083-6A66-4FAF-8DAD-8EB86903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261E-1557-466D-8683-6EFBA869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D7D8-5FB1-4033-B93D-242B5BA2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9B95-3069-45FD-B934-52B95772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495B-A3E8-48F3-9BD0-E38A0D23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C3E29-6CA6-4EFE-A6A9-50C34CE2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88D8-1801-436D-BA1F-A69DE666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5FC16-1935-4F16-B12A-15AF4C7F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D59-15A9-40C0-B32F-EC98B3C8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8EE5-C2E3-4F4A-A631-D9C91C7C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5E74-7D3F-4E63-85DF-EF4A906C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ABCE-900D-4DEF-81EA-FA68C92D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1CF43-6032-4750-AAA3-08B7B1C0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6369-C6F6-4252-B308-0E76A5B7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37CE-61C1-42B4-848E-3DA9AC09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11860-C458-48B3-BADF-004A2A05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DF1A-A2F2-4606-83EF-8FBF0D98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F2A0-41B7-4C89-8F0A-BC6DEC98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889D8-D382-4468-A9E3-73738B24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B03-7F51-4E65-96DA-0489B7AE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58E9C-F734-4A7A-A0A4-7038607A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6C509-93CD-45A6-81D1-BB0257A6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910BD-E412-4AB5-A653-4187D1E5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D2854-FD3B-4CDE-A109-85B0D97A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9180C-5B35-4B6E-BB2B-781CECE5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C6CE4-1CB0-430B-8D0D-E17B7F7A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69FE7-23DC-4A34-B5EE-A691D3F0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DFD5-A9A4-44D8-8A34-601DBB83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8D1F-FF1B-4268-AA6F-D53288BA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00FB9-A8B9-41AE-848B-08FAFF96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1B7-6AD9-45A0-ADFC-FA0E3DAF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37C93-DBE2-4A80-BED9-D3BE3CE9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3A9AA-336B-47F3-9A34-05D74824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143E0-5F65-47BC-87C2-DB3D8B62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76CFA-C581-416C-8BD1-599A1522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765CF-C41B-4216-9845-20B1E2BF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4912A-35EB-43D4-AC42-7DE6440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31A19-3935-4E65-A9F2-EC884E9B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46C5-CD78-4916-9E24-37169B2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B642C-7CA0-41F4-AAF5-3A5C9B9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E7D7D-299E-45A2-94AF-75081DD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53F-0E2A-41B7-976C-6038130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ABBB-A621-46A2-BFEA-2951B06C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515BC-95D2-457B-9426-D66E7BFE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622D-42A9-4CDD-AFE7-9E606FAD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551AA-14B6-4F0F-915B-9F4B20B9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8AEA6-A4CA-4DE9-8452-DB26C59B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9BBC7-4E87-43E5-A863-D00BD157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C79D4-482C-421A-9654-A230BE03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53B71-58E8-48BF-99D1-82D6BDE9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C1B0-1DD0-4008-BEFF-5273901C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663B1-14D0-41AC-9D1C-F346BB87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DAA-1EDD-4415-A77A-BAE68413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B5BAD-5775-4BFA-99C2-6421A8D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FC1E8-7C0D-4A5A-94C4-1CE9D95D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7B53D-39D6-4642-87DA-15FAE9C5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65B83-F7B2-4153-9949-BCCFDAD2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5D8D3-3766-4FB8-8B08-7DDF6EB5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81C8F-BD0E-4EB7-B243-2262DD10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4F50B-FFF3-48FF-B4DB-EDC173E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2395-B0E0-474E-99DA-CAF64BBB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57B30-00D2-48C9-ABA5-672E9672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84E0-36BE-4104-AEAB-8393516D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17E-61D1-465B-BD69-B1FE9A4F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4CA16-78F3-474E-9655-E66BB71C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C8CD1-A25F-4B55-9490-E1FD8BAD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EAF70-4A02-4681-8C90-018AE5AF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0ED20-4DDB-4B13-9A00-04D45341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335F0-3BB3-4673-A2ED-20DD6C00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B999E-8DC8-43A7-89B2-1F060231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D21A5-CE26-460C-831E-20EE484F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BBCD9-BED4-47F9-9B95-9236A5FC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D4E34-7A90-403B-860F-530F4BD6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C5C41-52B2-47FF-8718-CC1E331F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E532B4-D28A-4608-9068-A8F732BEF087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4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4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A2A991-E3EB-4BA4-B6A7-6682986DBE53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D28DEE-EAE3-429B-B31D-D9E882C5DF8E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75BF21-08D6-4097-A395-2929C285AE5F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984EDE-6A3A-4E49-BA98-631992BE22CC}" type="slidenum">
              <a:rPr b="0" lang="ru-RU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8D3578-1AAC-467E-B75D-7C28D0820327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D8FE5E-1E92-4E03-890D-6842C5B17A9F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9BB0A8-D91C-479B-8A4D-553C92B2933E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E5F5AC-79D0-4FAB-B3B8-06B941E4A727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6C745C-692C-4946-86F0-4D829987491A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F24329-AD7C-4996-9396-8C0E9CE1993E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754080" y="922320"/>
            <a:ext cx="21430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20160" tIns="50400" bIns="504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Прямая соединительная линия 4"/>
          <p:cNvSpPr/>
          <p:nvPr/>
        </p:nvSpPr>
        <p:spPr>
          <a:xfrm flipH="1">
            <a:off x="4397040" y="356472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одзаголовок 2"/>
          <p:cNvSpPr/>
          <p:nvPr/>
        </p:nvSpPr>
        <p:spPr>
          <a:xfrm>
            <a:off x="5969160" y="2351160"/>
            <a:ext cx="43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ЁМ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03280" y="1692360"/>
            <a:ext cx="37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Line 636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0" name="Rectangle 717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0" y="0"/>
          <a:ext cx="10080720" cy="7556400"/>
        </p:xfrm>
        <a:graphic>
          <a:graphicData uri="http://schemas.openxmlformats.org/drawingml/2006/table">
            <a:tbl>
              <a:tblPr/>
              <a:tblGrid>
                <a:gridCol w="1338120"/>
                <a:gridCol w="1459080"/>
                <a:gridCol w="1455840"/>
                <a:gridCol w="1457280"/>
                <a:gridCol w="1455480"/>
                <a:gridCol w="1459080"/>
                <a:gridCol w="1455840"/>
              </a:tblGrid>
              <a:tr h="75564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6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0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95440" y="0"/>
          <a:ext cx="9072360" cy="7182000"/>
        </p:xfrm>
        <a:graphic>
          <a:graphicData uri="http://schemas.openxmlformats.org/drawingml/2006/table">
            <a:tbl>
              <a:tblPr/>
              <a:tblGrid>
                <a:gridCol w="1204920"/>
                <a:gridCol w="1311120"/>
                <a:gridCol w="1311120"/>
                <a:gridCol w="1311480"/>
                <a:gridCol w="1311120"/>
                <a:gridCol w="1311480"/>
                <a:gridCol w="1311120"/>
              </a:tblGrid>
              <a:tr h="7174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3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6336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d320"/>
                </a:solidFill>
                <a:latin typeface="Arial"/>
              </a:rPr>
              <a:t>ВОДОЁ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учёные называют водоёмам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ой водоём называется озером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называют рекой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веди примеры искусственных водоёмов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 называются самые большие водоёмы на Земле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В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исток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устье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русло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чему у истока река узкая, а в устье – широкая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С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на с.15 ТПО(№30):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кажи на схеме: устье реки, исток реки, приток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кажи стрелкой направление течения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означь на схеме правый и левый берега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ЗЕРО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0" y="1355760"/>
            <a:ext cx="10080720" cy="62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РЕКА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216000" y="1403280"/>
            <a:ext cx="986472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ДЕКОРАТИВНЫЙ ПРУД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0" y="1547640"/>
            <a:ext cx="100807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НУГУШСКОЕ ВОДОХРАНИЛИЩ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0" y="1555920"/>
            <a:ext cx="10080720" cy="60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КЕАН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0" y="1116000"/>
            <a:ext cx="1008072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1"/>
          <p:cNvSpPr/>
          <p:nvPr/>
        </p:nvSpPr>
        <p:spPr>
          <a:xfrm>
            <a:off x="-81000" y="314280"/>
            <a:ext cx="10161720" cy="7105680"/>
          </a:xfrm>
          <a:prstGeom prst="pie">
            <a:avLst/>
          </a:prstGeom>
          <a:solidFill>
            <a:srgbClr val="d7ae85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"/>
          <p:cNvSpPr/>
          <p:nvPr/>
        </p:nvSpPr>
        <p:spPr>
          <a:xfrm>
            <a:off x="357120" y="208080"/>
            <a:ext cx="714600" cy="714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71720" y="684360"/>
            <a:ext cx="634680" cy="237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911160" y="922320"/>
            <a:ext cx="23832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"/>
          <p:cNvSpPr/>
          <p:nvPr/>
        </p:nvSpPr>
        <p:spPr>
          <a:xfrm flipV="1">
            <a:off x="1071720" y="205920"/>
            <a:ext cx="555480" cy="241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"/>
          <p:cNvSpPr/>
          <p:nvPr/>
        </p:nvSpPr>
        <p:spPr>
          <a:xfrm flipH="1">
            <a:off x="593640" y="922320"/>
            <a:ext cx="8280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"/>
          <p:cNvSpPr/>
          <p:nvPr/>
        </p:nvSpPr>
        <p:spPr>
          <a:xfrm flipH="1">
            <a:off x="-1800" y="763560"/>
            <a:ext cx="439560" cy="477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8"/>
          <p:cNvSpPr/>
          <p:nvPr/>
        </p:nvSpPr>
        <p:spPr>
          <a:xfrm flipH="1">
            <a:off x="-1800" y="525600"/>
            <a:ext cx="360360" cy="79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29160" bIns="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9"/>
          <p:cNvSpPr/>
          <p:nvPr/>
        </p:nvSpPr>
        <p:spPr>
          <a:xfrm flipH="1" flipV="1">
            <a:off x="-1800" y="-1800"/>
            <a:ext cx="439560" cy="37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"/>
          <p:cNvSpPr/>
          <p:nvPr/>
        </p:nvSpPr>
        <p:spPr>
          <a:xfrm flipV="1">
            <a:off x="673200" y="-1440"/>
            <a:ext cx="3240" cy="210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1"/>
          <p:cNvSpPr/>
          <p:nvPr/>
        </p:nvSpPr>
        <p:spPr>
          <a:xfrm flipV="1">
            <a:off x="911160" y="-1800"/>
            <a:ext cx="238320" cy="290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"/>
          <p:cNvSpPr/>
          <p:nvPr/>
        </p:nvSpPr>
        <p:spPr>
          <a:xfrm>
            <a:off x="0" y="1487520"/>
            <a:ext cx="8402760" cy="607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13"/>
          <p:cNvSpPr/>
          <p:nvPr/>
        </p:nvSpPr>
        <p:spPr>
          <a:xfrm>
            <a:off x="6537240" y="314280"/>
            <a:ext cx="1424160" cy="1217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174600" y="1795320"/>
            <a:ext cx="49118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ека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одный поток, текущий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ыработанном им углуб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"/>
          <p:cNvSpPr/>
          <p:nvPr/>
        </p:nvSpPr>
        <p:spPr>
          <a:xfrm flipH="1">
            <a:off x="2974680" y="5207040"/>
            <a:ext cx="111420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 rot="19620000">
            <a:off x="2610000" y="5122800"/>
            <a:ext cx="20019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Течение р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7500960" y="1398600"/>
            <a:ext cx="216000" cy="212760"/>
          </a:xfrm>
          <a:custGeom>
            <a:avLst/>
            <a:gdLst>
              <a:gd name="textAreaLeft" fmla="*/ 88920 w 216000"/>
              <a:gd name="textAreaRight" fmla="*/ 127080 w 216000"/>
              <a:gd name="textAreaTop" fmla="*/ 87480 h 212760"/>
              <a:gd name="textAreaBottom" fmla="*/ 125280 h 2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-12600" bIns="-12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7977240" y="1241280"/>
            <a:ext cx="1827000" cy="7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сток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о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9"/>
          <p:cNvSpPr/>
          <p:nvPr/>
        </p:nvSpPr>
        <p:spPr>
          <a:xfrm flipH="1">
            <a:off x="7818480" y="1477800"/>
            <a:ext cx="479520" cy="3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2976480" y="5896080"/>
            <a:ext cx="7620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Усть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место впадения реки в океан, море, озеро, р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1"/>
          <p:cNvSpPr/>
          <p:nvPr/>
        </p:nvSpPr>
        <p:spPr>
          <a:xfrm>
            <a:off x="2341440" y="6081840"/>
            <a:ext cx="317520" cy="317520"/>
          </a:xfrm>
          <a:custGeom>
            <a:avLst/>
            <a:gdLst>
              <a:gd name="textAreaLeft" fmla="*/ 130680 w 317520"/>
              <a:gd name="textAreaRight" fmla="*/ 186840 w 317520"/>
              <a:gd name="textAreaTop" fmla="*/ 130680 h 317520"/>
              <a:gd name="textAreaBottom" fmla="*/ 1868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2"/>
          <p:cNvSpPr/>
          <p:nvPr/>
        </p:nvSpPr>
        <p:spPr>
          <a:xfrm flipH="1">
            <a:off x="2655720" y="6161040"/>
            <a:ext cx="401760" cy="79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3"/>
          <p:cNvSpPr/>
          <p:nvPr/>
        </p:nvSpPr>
        <p:spPr>
          <a:xfrm rot="16860000">
            <a:off x="5191560" y="3199680"/>
            <a:ext cx="179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лавн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 flipH="1" rot="18600000">
            <a:off x="3334320" y="3794760"/>
            <a:ext cx="1565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5"/>
          <p:cNvSpPr/>
          <p:nvPr/>
        </p:nvSpPr>
        <p:spPr>
          <a:xfrm rot="18900000">
            <a:off x="6878880" y="3883680"/>
            <a:ext cx="1430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7"/>
          <p:cNvSpPr/>
          <p:nvPr/>
        </p:nvSpPr>
        <p:spPr>
          <a:xfrm>
            <a:off x="2500200" y="1557360"/>
            <a:ext cx="5081760" cy="4603680"/>
          </a:xfrm>
          <a:prstGeom prst="pie">
            <a:avLst/>
          </a:pr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30"/>
          <p:cNvSpPr txBox="1"/>
          <p:nvPr/>
        </p:nvSpPr>
        <p:spPr>
          <a:xfrm>
            <a:off x="1944720" y="366840"/>
            <a:ext cx="4842000" cy="206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996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Что такое река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94" name="Text Box 25"/>
          <p:cNvSpPr/>
          <p:nvPr/>
        </p:nvSpPr>
        <p:spPr>
          <a:xfrm rot="20541600">
            <a:off x="4097520" y="4081320"/>
            <a:ext cx="18417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а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5"/>
          <p:cNvSpPr/>
          <p:nvPr/>
        </p:nvSpPr>
        <p:spPr>
          <a:xfrm rot="20541600">
            <a:off x="3555000" y="5389920"/>
            <a:ext cx="18414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е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41:24Z</dcterms:created>
  <dc:creator/>
  <dc:description/>
  <dc:language>en-US</dc:language>
  <cp:lastModifiedBy>*****</cp:lastModifiedBy>
  <dcterms:modified xsi:type="dcterms:W3CDTF">2011-10-29T04:33:39Z</dcterms:modified>
  <cp:revision>6</cp:revision>
  <dc:subject/>
  <dc:title>Слайд 1</dc:title>
</cp:coreProperties>
</file>